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43B-16BE-4AB9-87AE-6F2AD01D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A0D-881B-4777-A238-75A5F672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0B9-37A6-4320-90E3-BB81929A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3C7-E109-41F6-AFF7-17F3722E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BEBD-B788-4558-B8C0-0E9CF238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043D-6CD8-4EEB-A411-6351BA6B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41E4-A042-4E87-B2FC-237BF5B7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0FF8-1F9A-4183-9E8A-316A5DB1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5AF6-ED81-4A5C-BF72-136468A0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ECE0-4CFC-4074-AA71-9DF05869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D804-0A5F-487C-AD04-44BB6896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698-992E-4AEE-81B2-9190984E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8C1D-B339-46A0-A67E-A29F39F1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554E-9CB3-489D-B52D-CFD48A0E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B9BE-BEC0-412E-B7C1-3D04C933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EA43-14E9-4252-9E1D-165D4EAB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45AD-7FD6-4CB9-944A-7A0132EE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11FE-30A3-4E06-9FE2-5E0E0E1F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87254-A104-4327-8555-914E20E6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43C9-AFA5-4D56-9E6A-57A3944D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EF502-0ACC-4055-BD7E-888D14F6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7477B-AA04-43DD-BAF1-8499BFB5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A13-AD2B-4D5A-A932-0F4C8963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592AD-8EB5-4562-B48C-2328C8CD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35D65-F46B-46BE-B820-367FCF0B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8FFD8-551E-4681-A606-92FC048D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AFCCF-B7C7-4C8D-B503-91014113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AB193-C70F-43DA-9B7E-FA10399B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35380-022F-4C48-9A20-A878E74C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58A05-24C8-4516-8309-2CB262AD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FF927-D0ED-4E71-9E19-837009C7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13FF-93B1-4D36-B089-31CE0469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7D5A-A8D4-4CC2-A5FB-236149A5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A8F-2559-44C2-A1D0-80C281DF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B5B8C-B284-4F11-B5BA-E41405E9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FC58E-6B79-4057-846B-C3305DB3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491D1-892D-4B83-BFAA-DF027733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75343-2C4D-4299-8048-85B66327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DB7CF-E061-4EA7-B849-8AD16103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ED74A-A5F3-42B5-861B-B7494C07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844CE-2B35-40F9-B5FA-27BD374A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04DA3-C3B9-4F9E-A819-CE20A167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63C67-2197-4457-8BA0-EB0F2026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4B430-2B6D-4CE3-A741-E14D2112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014-FC65-423F-812C-DA849887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3A217-F8D6-4E81-AE4B-7223B492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62E7C-87FE-4C5B-850E-35EF5306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396F1-EB06-4333-8E6B-5AA114CB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B1228-CF08-495C-A8DA-3C36A3F8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5E60B-ACFF-4BA0-98C0-6EFDFF86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CA800-2769-47EF-9063-8BCF349B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5CF8B-1E6B-42EE-A98A-EE244225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ABD8A-F023-46CA-8788-11B8E0AF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61BD8-145E-41A1-8A0A-604DF072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9F349-8FEF-4E22-8198-D8ACD1DF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E2B-3979-4AE0-AF8C-BDD9C3A9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A8358-6F4F-46B4-AABB-8962958F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E51-D9DE-4245-A61D-411D78BB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477-6734-4B87-92C7-B6D4F5C3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1B8-E905-4FB0-BC30-40F33161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3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149A-4A7B-4B34-AEC5-8386AF586306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3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AB73-7864-4BAE-931C-C0B56CA0C10F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3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6C1E-E727-466B-BC6B-579966F0BBFD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3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611F-9118-4F35-939E-61CC87E5CB20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3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D74E-37D0-4A3B-A5B0-CD0BE1525B4D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23760" y="2346480"/>
            <a:ext cx="4633920" cy="236520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7"/>
          <p:cNvSpPr/>
          <p:nvPr/>
        </p:nvSpPr>
        <p:spPr>
          <a:xfrm>
            <a:off x="250920" y="4986360"/>
            <a:ext cx="8812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манович Нелли Александровна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 социолог. н., ген. директор ИОМ «Квалитас» (г. Воронеж),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фессор Российской Академии народного хозяйства и  государственной службы при Президенте РФ (Воронежский филиал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Прямоугольник 5"/>
          <p:cNvSpPr/>
          <p:nvPr/>
        </p:nvSpPr>
        <p:spPr>
          <a:xfrm>
            <a:off x="395280" y="333360"/>
            <a:ext cx="1008000" cy="100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93" name="Picture 8" descr="Logo Qualitas"/>
          <p:cNvPicPr/>
          <p:nvPr/>
        </p:nvPicPr>
        <p:blipFill>
          <a:blip r:embed="rId2"/>
          <a:stretch/>
        </p:blipFill>
        <p:spPr>
          <a:xfrm>
            <a:off x="407880" y="333360"/>
            <a:ext cx="1019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2"/>
          <a:stretch/>
        </p:blipFill>
        <p:spPr>
          <a:xfrm>
            <a:off x="433440" y="249120"/>
            <a:ext cx="8289720" cy="860400"/>
          </a:xfrm>
          <a:prstGeom prst="rect">
            <a:avLst/>
          </a:prstGeom>
          <a:ln w="0">
            <a:noFill/>
          </a:ln>
        </p:spPr>
      </p:pic>
      <p:pic>
        <p:nvPicPr>
          <p:cNvPr id="409" name="Объект 3" descr=""/>
          <p:cNvPicPr/>
          <p:nvPr/>
        </p:nvPicPr>
        <p:blipFill>
          <a:blip r:embed="rId3"/>
          <a:stretch/>
        </p:blipFill>
        <p:spPr>
          <a:xfrm>
            <a:off x="406440" y="1362240"/>
            <a:ext cx="8331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414360" y="122400"/>
            <a:ext cx="8601120" cy="1346040"/>
          </a:xfrm>
          <a:prstGeom prst="rect">
            <a:avLst/>
          </a:prstGeom>
          <a:ln w="0">
            <a:noFill/>
          </a:ln>
        </p:spPr>
      </p:pic>
      <p:pic>
        <p:nvPicPr>
          <p:cNvPr id="411" name="Объект 3" descr=""/>
          <p:cNvPicPr/>
          <p:nvPr/>
        </p:nvPicPr>
        <p:blipFill>
          <a:blip r:embed="rId3"/>
          <a:stretch/>
        </p:blipFill>
        <p:spPr>
          <a:xfrm>
            <a:off x="406440" y="1362240"/>
            <a:ext cx="8331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6836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fe6d0"/>
                </a:solidFill>
                <a:latin typeface="Arial"/>
                <a:ea typeface="Arial"/>
              </a:rPr>
              <a:t>Выводы: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fe6d0"/>
                </a:solidFill>
                <a:latin typeface="Arial"/>
                <a:ea typeface="Arial"/>
              </a:rPr>
              <a:t>- Современные мужчины научились тем бытовым навыкам, которые представляют собой необходимость для жизни, хотя и считаются традиционно женскими обязанностями в семье (например, приготовление пищи, глажение рубашек и т.п.).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fe6d0"/>
                </a:solidFill>
                <a:latin typeface="Arial"/>
                <a:ea typeface="Arial"/>
              </a:rPr>
              <a:t>- Современные мужчины не готовы пока в массовом порядке учиться тем навыкам, которые являются традиционно женским занятием и играют в быту второстепенную роль (например, вязание), то есть без чего можно было бы обойтись.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fe6d0"/>
                </a:solidFill>
                <a:latin typeface="Arial"/>
                <a:ea typeface="Arial"/>
              </a:rPr>
              <a:t>- Знаковые вехи современности: компьютеры и автомобили активно осваиваются как мужской, так и женской половиной населения, хотя мужчины численно пока преобладают над женщинами в умении обращаться с техническими новинками. </a:t>
            </a:r>
            <a:endParaRPr b="0" lang="en-US" sz="2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6836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e6d0"/>
                </a:solidFill>
                <a:latin typeface="Arial"/>
                <a:ea typeface="Arial"/>
              </a:rPr>
              <a:t>Выводы: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Arial"/>
                <a:ea typeface="Arial"/>
              </a:rPr>
              <a:t>- Современные женщины пытаются освоить традиционные мужские бытовые навыки (например, повесить полку на стену)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Arial"/>
                <a:ea typeface="Arial"/>
              </a:rPr>
              <a:t>- Игра на музыкальных инструментах не является сегодня ролевым гендерным индикатором, то есть общество не выдвигает музыкальное образование в качестве непременного атрибута при воспитании девушки или юноши. 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Arial"/>
                <a:ea typeface="Arial"/>
              </a:rPr>
              <a:t>- Размывание гендерных ролей является следствием кризиса института семьи, когда супруги, обретая независимость, уже не могут положиться на свою половину в выполнении бытовых традиционных обязанностей. И женщинам, и мужчинам приходится осваивать нетрадиционные для них гендерные роли в силу необходимости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2924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e6d0"/>
                </a:solidFill>
                <a:latin typeface="Arial"/>
                <a:ea typeface="Arial"/>
              </a:rPr>
              <a:t>СПАСИБО ЗА ВНИМАНИЕ!</a:t>
            </a:r>
            <a:endParaRPr b="0" lang="en-US" sz="40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Arial"/>
                <a:ea typeface="Arial"/>
              </a:rPr>
              <a:t>Еще двести лет назад вопрос о том, что могут делать женщины или мужчины был не актуален, так как социальные роли были предопределены ещё с момента рождения в определенном сословии и жестко поддерживались в рамках традиции. Это были те навыки, которые люди приобретали в процессе повседневной жизни, так сказать, обучались, не учась специально. Просто считалось, что они должны это уметь, и потому получали необходимую информацию и опыт. 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Arial"/>
                <a:ea typeface="Arial"/>
              </a:rPr>
              <a:t>Сегодня же социальные роли мужчин и женщин все более размываются. Мужчины осваивают те занятия, которые прежде считались женскими, а женщины преуспевают в исконно мужских сферах деятельности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Arial"/>
                <a:ea typeface="Arial"/>
              </a:rPr>
              <a:t>Так что же сегодня умеют женщины, а что – мужчины? 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e6d0"/>
                </a:solidFill>
                <a:latin typeface="Arial"/>
                <a:ea typeface="Arial"/>
              </a:rPr>
              <a:t>Институт общественного мнения «Квалитас» провел социологическое исследование в городе Воронеже (было опрошено 655 человек в феврале 2009 г. методом личного интервью по репрезентативной выборке для городского населения старше 18 лет)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2"/>
          <a:stretch/>
        </p:blipFill>
        <p:spPr>
          <a:xfrm>
            <a:off x="457200" y="139680"/>
            <a:ext cx="8229600" cy="1513080"/>
          </a:xfrm>
          <a:prstGeom prst="rect">
            <a:avLst/>
          </a:prstGeom>
          <a:ln w="0">
            <a:noFill/>
          </a:ln>
        </p:spPr>
      </p:pic>
      <p:pic>
        <p:nvPicPr>
          <p:cNvPr id="397" name="Объект 3" descr=""/>
          <p:cNvPicPr/>
          <p:nvPr/>
        </p:nvPicPr>
        <p:blipFill>
          <a:blip r:embed="rId3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2"/>
          <a:stretch/>
        </p:blipFill>
        <p:spPr>
          <a:xfrm>
            <a:off x="457200" y="139680"/>
            <a:ext cx="8229600" cy="1513080"/>
          </a:xfrm>
          <a:prstGeom prst="rect">
            <a:avLst/>
          </a:prstGeom>
          <a:ln w="0">
            <a:noFill/>
          </a:ln>
        </p:spPr>
      </p:pic>
      <p:pic>
        <p:nvPicPr>
          <p:cNvPr id="399" name="Объект 3" descr=""/>
          <p:cNvPicPr/>
          <p:nvPr/>
        </p:nvPicPr>
        <p:blipFill>
          <a:blip r:embed="rId3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457200" y="139680"/>
            <a:ext cx="8229600" cy="1513080"/>
          </a:xfrm>
          <a:prstGeom prst="rect">
            <a:avLst/>
          </a:prstGeom>
          <a:ln w="0">
            <a:noFill/>
          </a:ln>
        </p:spPr>
      </p:pic>
      <p:pic>
        <p:nvPicPr>
          <p:cNvPr id="401" name="Объект 3" descr=""/>
          <p:cNvPicPr/>
          <p:nvPr/>
        </p:nvPicPr>
        <p:blipFill>
          <a:blip r:embed="rId3"/>
          <a:stretch/>
        </p:blipFill>
        <p:spPr>
          <a:xfrm>
            <a:off x="406440" y="1217520"/>
            <a:ext cx="83311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457200" y="139680"/>
            <a:ext cx="8229600" cy="1513080"/>
          </a:xfrm>
          <a:prstGeom prst="rect">
            <a:avLst/>
          </a:prstGeom>
          <a:ln w="0">
            <a:noFill/>
          </a:ln>
        </p:spPr>
      </p:pic>
      <p:pic>
        <p:nvPicPr>
          <p:cNvPr id="403" name="Объект 3" descr=""/>
          <p:cNvPicPr/>
          <p:nvPr/>
        </p:nvPicPr>
        <p:blipFill>
          <a:blip r:embed="rId3"/>
          <a:stretch/>
        </p:blipFill>
        <p:spPr>
          <a:xfrm>
            <a:off x="406440" y="1217520"/>
            <a:ext cx="83311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011240"/>
          </a:xfrm>
          <a:prstGeom prst="rect">
            <a:avLst/>
          </a:prstGeom>
          <a:ln w="0">
            <a:noFill/>
          </a:ln>
        </p:spPr>
      </p:pic>
      <p:pic>
        <p:nvPicPr>
          <p:cNvPr id="405" name="Объект 3" descr=""/>
          <p:cNvPicPr/>
          <p:nvPr/>
        </p:nvPicPr>
        <p:blipFill>
          <a:blip r:embed="rId3"/>
          <a:stretch/>
        </p:blipFill>
        <p:spPr>
          <a:xfrm>
            <a:off x="406440" y="1217520"/>
            <a:ext cx="83311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469800" y="128520"/>
            <a:ext cx="8229600" cy="1603440"/>
          </a:xfrm>
          <a:prstGeom prst="rect">
            <a:avLst/>
          </a:prstGeom>
          <a:ln w="0">
            <a:noFill/>
          </a:ln>
        </p:spPr>
      </p:pic>
      <p:pic>
        <p:nvPicPr>
          <p:cNvPr id="407" name="Объект 3" descr=""/>
          <p:cNvPicPr/>
          <p:nvPr/>
        </p:nvPicPr>
        <p:blipFill>
          <a:blip r:embed="rId3"/>
          <a:stretch/>
        </p:blipFill>
        <p:spPr>
          <a:xfrm>
            <a:off x="406440" y="1362240"/>
            <a:ext cx="8331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5:50:42Z</dcterms:created>
  <dc:creator>nelly nelly</dc:creator>
  <dc:description/>
  <dc:language>en-US</dc:language>
  <cp:lastModifiedBy>nelly nelly</cp:lastModifiedBy>
  <dcterms:modified xsi:type="dcterms:W3CDTF">2012-03-30T06:35:27Z</dcterms:modified>
  <cp:revision>7</cp:revision>
  <dc:subject/>
  <dc:title>Презентация PowerPoint</dc:title>
</cp:coreProperties>
</file>